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5AE-C4C8-4073-87CD-F74F267412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Технология подготовк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проведения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классного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F5D6-0F63-4554-8E6D-257FEA0F8C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деятельность по подготовк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6A61-73EE-4E0F-A9DF-557200C9B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совместно с другими организаторами сценарного плана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2C29-769A-4F1B-8915-C224E78A74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час может проводиться 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го собр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а 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ого часа (час классного руководител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 или тематической л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иг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C6AF-748E-4447-B79A-2C5F7DCD9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распределяется и планируется классным руководителем и обучающими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F9B4-07BE-43CA-9FAD-5DACE257AA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4C33-5668-4629-81C7-4595959609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C38F-F4E9-46BA-B2F1-95C2D6D84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18CF-041B-4748-97EB-BC0BA06962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A555-D464-4B60-B407-4F651B0C12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, для каждого часа день и время опреде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 рекомендуется классный час проводить в субботу, лучше в первой половин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79BC-1B83-45F3-8AF4-8D146BD827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 должен иметь план проведения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ка классного часа, да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оспитате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овед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ое слово учи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по классному час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ли реализовать воспитатель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B659-CED0-4D56-B2F7-0CD0AB8D60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есть форма прямого общения воспитателя со своими воспитанник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. П. Саз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9D4B-18D0-40DD-ACDD-580C4E40E6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ы классных ча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диспуты, обсуждения, беседы, лекции, конференции, устный жур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релищно-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скур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зднич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гров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04A6-AC16-4E3E-A32E-7B19E347F8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лись воспитательные задачи в ходе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рганизация работы с учащимися - индивидуальная, групповая или фронтальная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тивность и инициативность ребя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распределение поручений при подготовке к классному ч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заимоотношения учитель - ученики (тон, манера обращ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8475-DC6E-4086-83EF-BAAA74D0ED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дисципл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внешность учащихся, по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продолжительность классного часа (от 30 до 45 мин., экскурсия - 1 час 20 мин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) связь с жизнью, нагляд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7E1F-E96A-41C4-A4BA-6F2E7C84FB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классного часа. Что да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качества пр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вижение новых задач для дальнейшей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предложения заместителя директора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29DE-BA4A-4BC3-9C97-84D1D99216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Е. Щуркова,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С. Финданиеви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54C-8D83-4D4E-B2EE-F412FC22B9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Л. И. Маленко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4676-73D2-4DCB-87BA-71CB00F53C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гибкая по своему составу и структуре форма воспитательн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EF0D-1A7A-47EF-804B-4C5F91D6E1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AF9F-1761-42C1-8493-A8075F367A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сознания обучающихся знаниями о природе, обществе,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A837-5A3B-4602-ABDA-93D8D5C166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639C-60AD-43E0-B613-E7E6C2C02E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темы классного часа и генерирование идей по его подготовке и прове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0322-74DC-47BD-AF9C-E131B7660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2CD-3A51-4EBC-B5E1-2E40818B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005-1C96-4811-8323-9AD12410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5BF-B4C4-4798-B3F0-4B24FE9A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BBA-C022-497F-B959-BC5BB21C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AEA6-00F6-4639-94B7-92F6646B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DA47-33AB-42FE-BB7A-7715C199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2BC-97B1-4F77-9861-284062FF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30DA-0C4A-4691-A76C-DC7CA4F6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0977-100A-4EDB-9323-1BBB4B07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89AE-7031-4A58-8BA7-F942E392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86DA-57E5-4DE0-9567-42512555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1F9-E96A-4618-94FF-8F78A0BD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ABFA-2B7B-4972-AAA1-58E7C3AE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E754-6CD2-4F4B-A58D-08D5984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66AC-E8DA-40AE-BDB9-A0835AFB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894E-AD07-4B3D-BD19-D745A803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E44F-C4E5-444C-8098-FB6C8E6F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0D7-C970-45CA-B22F-056426E5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560-F450-42AC-91B4-6220B040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2F0-E25E-4718-9247-2B942D98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576-F312-4CCA-ADFD-E02F4FCF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B42-5A4F-47F8-B79C-21D1683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A88-86CF-4ADE-97C7-D57D7B13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3C5-370D-4C7F-9EA4-38C99C3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69F9-BB1E-4E8D-98FD-0E7B41FC57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D4EC-7FB8-49FC-8F5A-2393F1FB89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765840" cy="42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Технология подготовк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проведения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классного часа</a:t>
            </a:r>
            <a:endParaRPr b="0" lang="en-US" sz="6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и групповая деятельность по подготовк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совместно с другими организаторами сценарного плана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548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 может проводиться  в фор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ого собр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а об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го часа (час классного руководител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 или тематической л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о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спределяется и планируется классным руководителем и обучающими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сть, для каждого часа день и время опреде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 рекомендуется классный час проводить в субботу, лучше в первой половине не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ный руководитель должен иметь план проведения классного ча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ка классного часа, д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воспитате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ительное слово учите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 по классному час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ось ли реализовать воспитательные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83628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ассный час есть форма прямого общения воспитателя со своими воспитанника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. П. Саз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Формы классных час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испуты, обсуждения, беседы, лекции, конференции, устный жур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релищно-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зднич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о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е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шались воспитательные задачи в ходе классного ч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зация работы с учащимися - индивидуальная, групповая или фронт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ктивность и инициативность ребя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аспределение поручений при подготовке к классному ч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заимоотношения учитель - ученики (тон, манера обращ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дисцип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 внешность учащихся, по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) продолжительность классного часа (от 30 до 45 мин., экскурсия - 1 час 20 мин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) связь с жизнью, нагляд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 классного часа. Что д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качества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вижение новых задач для дальнейше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и предложения заместителя директора по воспитательной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Е. Щурков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С. Финдан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. И. Мал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лассный час -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гибкая по своему составу и структуре форма воспитательного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гащение сознания обучающихся знаниями о природе, обществе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ение темы классного часа и генерирование идей по его подготовке и провед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7:46:15Z</dcterms:created>
  <dc:creator>xxx</dc:creator>
  <dc:description/>
  <dc:language>en-US</dc:language>
  <cp:lastModifiedBy>LEGION</cp:lastModifiedBy>
  <dcterms:modified xsi:type="dcterms:W3CDTF">2015-01-27T12:13:20Z</dcterms:modified>
  <cp:revision>10</cp:revision>
  <dc:subject/>
  <dc:title>Технология подготовки  и  проведения  классного часа</dc:title>
</cp:coreProperties>
</file>